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C3AD-474B-4CB4-BC73-A8EB7C9BD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E515-2B52-4B98-8771-6A8330A9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7CC5-17BE-4EF0-90B6-B7F72CFA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B1F3-F579-4887-B839-ADC054AF1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E966-1EC4-4F77-81C4-17E5FBDF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B148-3028-4EE4-87E7-3156A309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ABDF-92D5-4E96-B435-F948718F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6DF6-6760-4D9E-A4B1-A82F3A27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C0AD-73F3-4CAE-8D41-6FA3475A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5B72-D768-4751-B9B7-640F7363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A996-F5E6-4397-9382-8A557C65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9563-F8D8-4BF0-94FF-96C685FB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15E2-2E7A-4885-9A7B-A74207902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ri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M CH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ul Ch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ennan Guilb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 T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ttom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riculture has made the U.S. and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conomically rich becaus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is a large variety of crops and live stock so one crop failing won’t lead to an entire economic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brings in tons of money through ex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http://wpguru.co.uk/wp-content/uploads/2010/08/money_icon.jpg"/>
          <p:cNvPicPr/>
          <p:nvPr/>
        </p:nvPicPr>
        <p:blipFill>
          <a:blip r:embed="rId1"/>
          <a:stretch/>
        </p:blipFill>
        <p:spPr>
          <a:xfrm>
            <a:off x="3498840" y="5327640"/>
            <a:ext cx="260352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e to the large variety of the U.S.’s crop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vestock and record number of exports, the U.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an  extremely large agricultural profit. Cro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the U.S. are in huge demand and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nefiting from poor harvests in o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ntries. However, because the crops are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ch high demand, future demand is extreme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and will be difficult to m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does agriculture change the environ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definition, agriculture uses the lan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. Therefore, since we have to cha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and in order to do agriculture, we have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http://www.freeiconsweb.com/Freeicons/Farms_Icons_set/farm.png"/>
          <p:cNvPicPr/>
          <p:nvPr/>
        </p:nvPicPr>
        <p:blipFill>
          <a:blip r:embed="rId1"/>
          <a:stretch/>
        </p:blipFill>
        <p:spPr>
          <a:xfrm>
            <a:off x="3962520" y="464832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gative Effect (H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negative effect of agriculture is pestic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sticides are often used to control or eliminate pes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pesticides are harmful to humans and o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sms (especially top-level consumers),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vironment, and taint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www.iconarchive.com/icons/visualpharm/must-have/256/Negative-icon.png"/>
          <p:cNvPicPr/>
          <p:nvPr/>
        </p:nvPicPr>
        <p:blipFill>
          <a:blip r:embed="rId1"/>
          <a:stretch/>
        </p:blipFill>
        <p:spPr>
          <a:xfrm>
            <a:off x="3657600" y="457200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iconarchive.com/icons/visualpharm/must-have/256/Negative-icon.p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freeiconsweb.com/Freeicons/Farms_Icons_set/farm.p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pguru.co.uk/wp-content/uploads/2010/08/money_icon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4:40:37Z</dcterms:created>
  <dc:creator>cfisd</dc:creator>
  <dc:description/>
  <dc:language>en-US</dc:language>
  <cp:lastModifiedBy>Paul Byung-Joon Choi</cp:lastModifiedBy>
  <dcterms:modified xsi:type="dcterms:W3CDTF">2010-10-08T03:47:15Z</dcterms:modified>
  <cp:revision>5</cp:revision>
  <dc:subject/>
  <dc:title>Agriculture</dc:title>
</cp:coreProperties>
</file>