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5008-6CCE-4E37-A202-74A08DA51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78C6-5535-4E8F-8FE3-6DC81D58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735A-C1AC-46BD-AD05-0C4E04C20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0BA8-24D3-4A67-BF7E-4C09FEE3B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C454-5894-4342-A45F-11426FA6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D673-B9FF-4A59-96DC-5E950728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DF16-D3C9-4831-A289-FAB5EA9A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DFBB-D5F6-4AB2-B865-8D68D0B4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A4C5-F29E-40FD-B49E-0D2780C3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5E65-2FAA-427A-9954-85807FAD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D10F-92A7-4136-BF1C-6CF18892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9961-E496-4050-AFC1-C4488EE7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7535-D525-4144-B844-6D957DA06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ri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M CH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ul Ch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ennan Guilb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 T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ttom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riculture has made the U.S. and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conomically rich becaus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is a large variety of crops and live stock so one crop failing won’t lead to an entire economic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brings in tons of money through ex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http://wpguru.co.uk/wp-content/uploads/2010/08/money_icon.jpg"/>
          <p:cNvPicPr/>
          <p:nvPr/>
        </p:nvPicPr>
        <p:blipFill>
          <a:blip r:embed="rId1"/>
          <a:stretch/>
        </p:blipFill>
        <p:spPr>
          <a:xfrm>
            <a:off x="3498840" y="5327640"/>
            <a:ext cx="260352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e to the large variety of the U.S.’s crop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vestock and record number of exports, the U.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an  extremely large agricultural profit. Cro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the U.S. are in huge demand and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nefiting from poor harvests in o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ntries. However, because the crops are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ch high demand, future demand is extreme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and will be difficult to m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does agriculture change the environ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definition, agriculture uses the lan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. Therefore, since we have to chan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and in order to do agriculture, we have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http://www.freeiconsweb.com/Freeicons/Farms_Icons_set/farm.png"/>
          <p:cNvPicPr/>
          <p:nvPr/>
        </p:nvPicPr>
        <p:blipFill>
          <a:blip r:embed="rId1"/>
          <a:stretch/>
        </p:blipFill>
        <p:spPr>
          <a:xfrm>
            <a:off x="3962520" y="4648320"/>
            <a:ext cx="1218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gative Effect (H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negative effect of agriculture is pestic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sticides are often used to control or eliminate pes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pesticides are harmful to humans and 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sms (especially top-level consumers),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vironment, and taint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www.iconarchive.com/icons/visualpharm/must-have/256/Negative-icon.png"/>
          <p:cNvPicPr/>
          <p:nvPr/>
        </p:nvPicPr>
        <p:blipFill>
          <a:blip r:embed="rId1"/>
          <a:stretch/>
        </p:blipFill>
        <p:spPr>
          <a:xfrm>
            <a:off x="3657600" y="457200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iconarchive.com/icons/visualpharm/must-have/256/Negative-icon.p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freeiconsweb.com/Freeicons/Farms_Icons_set/farm.p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pguru.co.uk/wp-content/uploads/2010/08/money_icon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4:40:37Z</dcterms:created>
  <dc:creator>cfisd</dc:creator>
  <dc:description/>
  <dc:language>en-US</dc:language>
  <cp:lastModifiedBy>Paul Byung-Joon Choi</cp:lastModifiedBy>
  <dcterms:modified xsi:type="dcterms:W3CDTF">2010-10-08T03:47:15Z</dcterms:modified>
  <cp:revision>5</cp:revision>
  <dc:subject/>
  <dc:title>Agriculture</dc:title>
</cp:coreProperties>
</file>