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4DC-A59D-4EE5-8A2D-80137C6A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D87-F849-4FC8-B4CB-9ACFBEF3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0B3-4385-48A8-9503-D04AC95E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78EC-A457-4CD3-A275-D383F7FE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08E-050F-4CCD-BABA-46C8352C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0CB-4092-4DD9-8F76-27A3110D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B62-E53B-434A-B189-860BC87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1F9-1E13-4A3D-9E08-D6C801B0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8DB3-7D89-439B-80B2-F96F3256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ABC-120F-433A-8BD8-522BFDF5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7CA-178E-413D-AC14-97591E2D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64D-1A12-43C3-9F13-69573405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6E63-C399-48BA-AB37-7851FFDCE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CH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ul Ch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nnan Guil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 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iculture has made the U.S. and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ally rich beca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large variety of crops and live stock so one crop failing won’t lead to an entire economic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brings in tons of money through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pguru.co.uk/wp-content/uploads/2010/08/money_icon.jpg"/>
          <p:cNvPicPr/>
          <p:nvPr/>
        </p:nvPicPr>
        <p:blipFill>
          <a:blip r:embed="rId1"/>
          <a:stretch/>
        </p:blipFill>
        <p:spPr>
          <a:xfrm>
            <a:off x="3498840" y="5327640"/>
            <a:ext cx="2603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the large variety of the U.S.’s crop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stock and record number of exports, the U.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n  extremely large agricultural profit. C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U.S. are in huge demand a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ing from poor harvests in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ies. However, because the crops ar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high demand, future demand is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and will be difficult to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agriculture change the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definition, agriculture uses the lan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. Therefore, since we have to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nd in order to do agriculture, we hav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freeiconsweb.com/Freeicons/Farms_Icons_set/farm.png"/>
          <p:cNvPicPr/>
          <p:nvPr/>
        </p:nvPicPr>
        <p:blipFill>
          <a:blip r:embed="rId1"/>
          <a:stretch/>
        </p:blipFill>
        <p:spPr>
          <a:xfrm>
            <a:off x="3962520" y="4648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Effect (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negative effect of agriculture is pestic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s are often used to control or eliminate p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pesticides are harmful to humans and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sms (especially top-level consumers),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, and taint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iconarchive.com/icons/visualpharm/must-have/256/Negative-icon.png"/>
          <p:cNvPicPr/>
          <p:nvPr/>
        </p:nvPicPr>
        <p:blipFill>
          <a:blip r:embed="rId1"/>
          <a:stretch/>
        </p:blipFill>
        <p:spPr>
          <a:xfrm>
            <a:off x="3657600" y="4572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iconarchive.com/icons/visualpharm/must-have/256/Negative-icon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freeiconsweb.com/Freeicons/Farms_Icons_set/farm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pguru.co.uk/wp-content/uploads/2010/08/money_icon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40:37Z</dcterms:created>
  <dc:creator>cfisd</dc:creator>
  <dc:description/>
  <dc:language>en-US</dc:language>
  <cp:lastModifiedBy>Paul Byung-Joon Choi</cp:lastModifiedBy>
  <dcterms:modified xsi:type="dcterms:W3CDTF">2010-10-08T03:47:15Z</dcterms:modified>
  <cp:revision>5</cp:revision>
  <dc:subject/>
  <dc:title>Agriculture</dc:title>
</cp:coreProperties>
</file>