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63F-C127-4F31-B5C4-D265B3A6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4FE-DD6D-4F15-8261-298D4482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99F1-6586-49DD-8958-E3B15E60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C65-73C2-4BD1-86F8-AF1F542D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743-5871-432B-B3E2-8938ABE9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55A-B5C6-4216-8F66-773BFF45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AD4D-A9F4-47ED-91D9-E65B9455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31A-BCE9-4BFA-842A-2F8991A0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ED0-B13F-436F-85D7-B9175236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15D3-539E-40E6-BF0E-09D11A4D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078-D04D-4CCF-98C6-0C28AD7B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DE2-89E7-4A50-89EB-82E0B8AD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6A5D-1ABE-4303-9EB9-9BECB6200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ri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M CH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ul Ch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nnan Guilb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 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to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iculture has made the U.S. and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ally rich beca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a large variety of crops and live stock so one crop failing won’t lead to an entire economic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brings in tons of money through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pguru.co.uk/wp-content/uploads/2010/08/money_icon.jpg"/>
          <p:cNvPicPr/>
          <p:nvPr/>
        </p:nvPicPr>
        <p:blipFill>
          <a:blip r:embed="rId1"/>
          <a:stretch/>
        </p:blipFill>
        <p:spPr>
          <a:xfrm>
            <a:off x="3498840" y="5327640"/>
            <a:ext cx="26035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e to the large variety of the U.S.’s crop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stock and record number of exports, the U.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n  extremely large agricultural profit. Cro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U.S. are in huge demand and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efiting from poor harvests in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ies. However, because the crops ar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high demand, future demand is extrem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and will be difficult to m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agriculture change the enviro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definition, agriculture uses the lan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. Therefore, since we have to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nd in order to do agriculture, we hav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www.freeiconsweb.com/Freeicons/Farms_Icons_set/farm.png"/>
          <p:cNvPicPr/>
          <p:nvPr/>
        </p:nvPicPr>
        <p:blipFill>
          <a:blip r:embed="rId1"/>
          <a:stretch/>
        </p:blipFill>
        <p:spPr>
          <a:xfrm>
            <a:off x="3962520" y="46483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ative Effect (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negative effect of agriculture is pestic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ticides are often used to control or eliminate pe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pesticides are harmful to humans and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sms (especially top-level consumers),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ronment, and taint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iconarchive.com/icons/visualpharm/must-have/256/Negative-icon.png"/>
          <p:cNvPicPr/>
          <p:nvPr/>
        </p:nvPicPr>
        <p:blipFill>
          <a:blip r:embed="rId1"/>
          <a:stretch/>
        </p:blipFill>
        <p:spPr>
          <a:xfrm>
            <a:off x="3657600" y="45720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iconarchive.com/icons/visualpharm/must-have/256/Negative-icon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freeiconsweb.com/Freeicons/Farms_Icons_set/farm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pguru.co.uk/wp-content/uploads/2010/08/money_icon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40:37Z</dcterms:created>
  <dc:creator>cfisd</dc:creator>
  <dc:description/>
  <dc:language>en-US</dc:language>
  <cp:lastModifiedBy>Paul Byung-Joon Choi</cp:lastModifiedBy>
  <dcterms:modified xsi:type="dcterms:W3CDTF">2010-10-08T03:47:15Z</dcterms:modified>
  <cp:revision>5</cp:revision>
  <dc:subject/>
  <dc:title>Agriculture</dc:title>
</cp:coreProperties>
</file>