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E0C-4C83-45F4-9EF2-721FEE4D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50C-73DF-4CA7-BD62-CCE50501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439-8610-42AC-9CAD-9F0C0F61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300-EFDD-4272-ABF7-F0172EB2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CF7-6A28-499F-B841-C665DC69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216-90B2-4C7A-B6D3-B6227D4B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AF6-4351-43E2-B10B-6BFE07D4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FCF-C185-4EFC-A217-85643959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85D-FFB0-4426-95EB-FB9C167D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4C3-18B0-4160-8883-A34B9374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E51-ACB9-438F-B58D-3811AC83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FFE-563E-4AF3-A61F-68195F2C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DAC4-3205-479F-B386-3D60F06E1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M CH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ul Ch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nnan Guilb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 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to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iculture has made the U.S. and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ally rich beca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 large variety of crops and live stock so one crop failing won’t lead to an entire economic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brings in tons of money through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pguru.co.uk/wp-content/uploads/2010/08/money_icon.jpg"/>
          <p:cNvPicPr/>
          <p:nvPr/>
        </p:nvPicPr>
        <p:blipFill>
          <a:blip r:embed="rId1"/>
          <a:stretch/>
        </p:blipFill>
        <p:spPr>
          <a:xfrm>
            <a:off x="3498840" y="5327640"/>
            <a:ext cx="26035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the large variety of the U.S.’s crop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stock and record number of exports, the U.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n  extremely large agricultural profit. Cr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U.S. are in huge demand a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ing from poor harvests in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ies. However, because the crops ar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high demand, future demand is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and will be difficult to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agriculture change the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definition, agriculture uses the lan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. Therefore, since we have to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nd in order to do agriculture, we hav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freeiconsweb.com/Freeicons/Farms_Icons_set/farm.png"/>
          <p:cNvPicPr/>
          <p:nvPr/>
        </p:nvPicPr>
        <p:blipFill>
          <a:blip r:embed="rId1"/>
          <a:stretch/>
        </p:blipFill>
        <p:spPr>
          <a:xfrm>
            <a:off x="3962520" y="46483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Effect (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negative effect of agriculture is pestic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icides are often used to control or eliminate pe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pesticides are harmful to humans and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sms (especially top-level consumers),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, and taint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iconarchive.com/icons/visualpharm/must-have/256/Negative-icon.png"/>
          <p:cNvPicPr/>
          <p:nvPr/>
        </p:nvPicPr>
        <p:blipFill>
          <a:blip r:embed="rId1"/>
          <a:stretch/>
        </p:blipFill>
        <p:spPr>
          <a:xfrm>
            <a:off x="3657600" y="45720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iconarchive.com/icons/visualpharm/must-have/256/Negative-icon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freeiconsweb.com/Freeicons/Farms_Icons_set/farm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pguru.co.uk/wp-content/uploads/2010/08/money_icon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40:37Z</dcterms:created>
  <dc:creator>cfisd</dc:creator>
  <dc:description/>
  <dc:language>en-US</dc:language>
  <cp:lastModifiedBy>Paul Byung-Joon Choi</cp:lastModifiedBy>
  <dcterms:modified xsi:type="dcterms:W3CDTF">2010-10-08T03:47:15Z</dcterms:modified>
  <cp:revision>5</cp:revision>
  <dc:subject/>
  <dc:title>Agriculture</dc:title>
</cp:coreProperties>
</file>